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28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2.png" ContentType="image/png"/>
  <Override PartName="/ppt/media/image20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37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media/image25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2D46-CC44-46B6-AF74-71F9C2E99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6A8E-AB64-4C00-BA1B-171E63AC5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A3A2-E067-4797-9D0C-72A593FDC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0FE8-1CBB-4943-B102-C411D9E9C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003320" y="695160"/>
            <a:ext cx="4848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D2E6-22CE-4654-9571-54CC0BEA4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BD72-BB83-40FD-8CB5-F6CC191B6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C33-330A-48D6-9494-B997B818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179-8178-48B9-BC0B-8611F147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9026-7367-437E-9ADD-333099F1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4D5-335E-431F-AAEF-84238365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401D-AAA9-4618-8E15-5C3E2A77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8404-B161-4A11-8B22-E10EAC61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2CFA-A2D6-4BFC-91A5-6BDF7B77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0591-0748-4C51-8702-160B9899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3F0B-4D63-43B5-9C8E-9DB7F7A3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CFB3-BFC9-4DF9-A1AC-3A3B1FBE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D52F-EDF4-4B78-8FDC-ED295BDD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8FA-2471-4445-B1AB-CD202554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8C4F-7667-4BA1-AE03-9E89E4D9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8E89-EF0B-42D2-A423-F7F0F556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8537-CF9D-4A46-B6AD-B65983A5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F16B-BF63-4E1D-A1C8-69EAEABB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B51E-6074-481D-872B-20E3A908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60069-23F8-48D8-99FE-4480C6D5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7CC29-C6A3-4ADA-8F47-F826B4F5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31E4E-05AD-4481-BFD0-402D6C3A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F04A8-EEDF-4598-BFDF-9A26EB66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84EE4-C25F-4DB6-8737-C601642E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ADD6-55E5-4161-8020-0F957A64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6952B-2CA6-4F96-9B6F-33882E26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9720C-63C0-4EDE-8CEB-50BCA955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7C4B-AA04-4B3C-8FF3-8B62B04B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C9796-CF57-4F67-86F3-9B87D490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AD2ED-5A31-4BE2-9D5E-361AC33A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F4735-E358-45AC-9B57-05A86281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EF982-FFC0-4B9C-A892-32C86FCA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B37-A07E-414C-B8FC-7BE69693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2C6-0CF0-42A8-978F-0E182450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81BD-58BB-4966-8591-9EA3D489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CDF-4460-4817-926B-7192B7A3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34DE-843C-4437-93F2-7692DE98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CE6E-D562-412C-9898-C3426953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2095-E4CE-4ACF-A9F6-F132DCDE939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C4D8-F55F-46A7-84C5-F3D2612C0EB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273492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58370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9684-ABC2-4865-B678-728617F0E53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. 18:  The CRM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7.  </a:t>
            </a: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Brown v. BOE </a:t>
            </a:r>
            <a:r>
              <a:rPr b="0" i="1" lang="en-US" sz="2000" spc="-1" strike="noStrike">
                <a:solidFill>
                  <a:srgbClr val="482400"/>
                </a:solidFill>
                <a:latin typeface="Times New Roman"/>
              </a:rPr>
              <a:t>(1954)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2040" y="1676520"/>
            <a:ext cx="412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case re: segregation in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reme Court ruled segregation was unconstitutional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turn of “separate but equal” doct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7" descr="brown"/>
          <p:cNvPicPr/>
          <p:nvPr/>
        </p:nvPicPr>
        <p:blipFill>
          <a:blip r:embed="rId1"/>
          <a:stretch/>
        </p:blipFill>
        <p:spPr>
          <a:xfrm>
            <a:off x="4573440" y="1549440"/>
            <a:ext cx="4572000" cy="23032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0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2201760" y="1789200"/>
            <a:ext cx="474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3" descr="browngirls"/>
          <p:cNvPicPr/>
          <p:nvPr/>
        </p:nvPicPr>
        <p:blipFill>
          <a:blip r:embed="rId2"/>
          <a:stretch/>
        </p:blipFill>
        <p:spPr>
          <a:xfrm>
            <a:off x="5479920" y="3886200"/>
            <a:ext cx="249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tIns="35280" anchor="b">
            <a:noAutofit/>
          </a:bodyPr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8. Southern Resista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61640" y="1766880"/>
            <a:ext cx="3808440" cy="5014800"/>
          </a:xfrm>
          <a:prstGeom prst="rect">
            <a:avLst/>
          </a:prstGeom>
          <a:noFill/>
          <a:ln w="0">
            <a:noFill/>
          </a:ln>
        </p:spPr>
        <p:txBody>
          <a:bodyPr tIns="22680" anchor="t">
            <a:normAutofit fontScale="98000"/>
          </a:bodyPr>
          <a:p>
            <a:pPr marL="335880" indent="-303120">
              <a:spcBef>
                <a:spcPts val="624"/>
              </a:spcBef>
              <a:tabLst>
                <a:tab algn="l" pos="0"/>
                <a:tab algn="l" pos="309600"/>
                <a:tab algn="l" pos="654120"/>
                <a:tab algn="l" pos="1311120"/>
                <a:tab algn="l" pos="1968480"/>
                <a:tab algn="l" pos="2624040"/>
                <a:tab algn="l" pos="328140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55040"/>
                <a:tab algn="l" pos="8962920"/>
                <a:tab algn="l" pos="9371160"/>
                <a:tab algn="l" pos="977904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.  “Southern Manifesto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03120">
              <a:spcBef>
                <a:spcPts val="601"/>
              </a:spcBef>
              <a:tabLst>
                <a:tab algn="l" pos="0"/>
                <a:tab algn="l" pos="309600"/>
                <a:tab algn="l" pos="654120"/>
                <a:tab algn="l" pos="1311120"/>
                <a:tab algn="l" pos="1968480"/>
                <a:tab algn="l" pos="2624040"/>
                <a:tab algn="l" pos="328140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55040"/>
                <a:tab algn="l" pos="8962920"/>
                <a:tab algn="l" pos="9371160"/>
                <a:tab algn="l" pos="977904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 Group of congressmen who declar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v. 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ing “abuse of judicial pow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03120">
              <a:spcBef>
                <a:spcPts val="601"/>
              </a:spcBef>
              <a:tabLst>
                <a:tab algn="l" pos="0"/>
                <a:tab algn="l" pos="309600"/>
                <a:tab algn="l" pos="654120"/>
                <a:tab algn="l" pos="1311120"/>
                <a:tab algn="l" pos="1968480"/>
                <a:tab algn="l" pos="2624040"/>
                <a:tab algn="l" pos="328140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55040"/>
                <a:tab algn="l" pos="8962920"/>
                <a:tab algn="l" pos="9371160"/>
                <a:tab algn="l" pos="977904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 Did not integrate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03120">
              <a:spcBef>
                <a:spcPts val="601"/>
              </a:spcBef>
              <a:tabLst>
                <a:tab algn="l" pos="0"/>
                <a:tab algn="l" pos="309600"/>
                <a:tab algn="l" pos="654120"/>
                <a:tab algn="l" pos="1311120"/>
                <a:tab algn="l" pos="1968480"/>
                <a:tab algn="l" pos="2624040"/>
                <a:tab algn="l" pos="328140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55040"/>
                <a:tab algn="l" pos="8962920"/>
                <a:tab algn="l" pos="9371160"/>
                <a:tab algn="l" pos="97790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03120">
              <a:spcBef>
                <a:spcPts val="601"/>
              </a:spcBef>
              <a:tabLst>
                <a:tab algn="l" pos="0"/>
                <a:tab algn="l" pos="309600"/>
                <a:tab algn="l" pos="654120"/>
                <a:tab algn="l" pos="1311120"/>
                <a:tab algn="l" pos="1968480"/>
                <a:tab algn="l" pos="2624040"/>
                <a:tab algn="l" pos="328140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55040"/>
                <a:tab algn="l" pos="8962920"/>
                <a:tab algn="l" pos="9371160"/>
                <a:tab algn="l" pos="97790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03120">
              <a:spcBef>
                <a:spcPts val="601"/>
              </a:spcBef>
              <a:tabLst>
                <a:tab algn="l" pos="0"/>
                <a:tab algn="l" pos="309600"/>
                <a:tab algn="l" pos="654120"/>
                <a:tab algn="l" pos="1311120"/>
                <a:tab algn="l" pos="1968480"/>
                <a:tab algn="l" pos="2624040"/>
                <a:tab algn="l" pos="328140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55040"/>
                <a:tab algn="l" pos="8962920"/>
                <a:tab algn="l" pos="9371160"/>
                <a:tab algn="l" pos="97790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03120">
              <a:spcBef>
                <a:spcPts val="601"/>
              </a:spcBef>
              <a:tabLst>
                <a:tab algn="l" pos="0"/>
                <a:tab algn="l" pos="309600"/>
                <a:tab algn="l" pos="654120"/>
                <a:tab algn="l" pos="1311120"/>
                <a:tab algn="l" pos="1968480"/>
                <a:tab algn="l" pos="2624040"/>
                <a:tab algn="l" pos="328140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55040"/>
                <a:tab algn="l" pos="8962920"/>
                <a:tab algn="l" pos="9371160"/>
                <a:tab algn="l" pos="97790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03120">
              <a:spcBef>
                <a:spcPts val="601"/>
              </a:spcBef>
              <a:tabLst>
                <a:tab algn="l" pos="0"/>
                <a:tab algn="l" pos="309600"/>
                <a:tab algn="l" pos="654120"/>
                <a:tab algn="l" pos="1311120"/>
                <a:tab algn="l" pos="1968480"/>
                <a:tab algn="l" pos="2624040"/>
                <a:tab algn="l" pos="328140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55040"/>
                <a:tab algn="l" pos="8962920"/>
                <a:tab algn="l" pos="9371160"/>
                <a:tab algn="l" pos="97790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03120">
              <a:spcBef>
                <a:spcPts val="601"/>
              </a:spcBef>
              <a:tabLst>
                <a:tab algn="l" pos="0"/>
                <a:tab algn="l" pos="309600"/>
                <a:tab algn="l" pos="654120"/>
                <a:tab algn="l" pos="1311120"/>
                <a:tab algn="l" pos="1968480"/>
                <a:tab algn="l" pos="2624040"/>
                <a:tab algn="l" pos="328140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55040"/>
                <a:tab algn="l" pos="8962920"/>
                <a:tab algn="l" pos="9371160"/>
                <a:tab algn="l" pos="977904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****************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060520" y="1676520"/>
            <a:ext cx="38084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*****************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0"/>
          <a:stretch/>
        </p:blipFill>
        <p:spPr>
          <a:xfrm>
            <a:off x="5060880" y="1828800"/>
            <a:ext cx="40831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520" y="25909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1.  Rosa Parks &amp; the</a:t>
            </a:r>
            <a:br>
              <a:rPr sz="3600"/>
            </a:b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Montgomery, Alabama Bus Boycott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79704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1100"/>
              </a:spcBef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Civil Rights Movement Beg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157400" y="10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157400" y="1038240"/>
            <a:ext cx="6777000" cy="360"/>
          </a:xfrm>
          <a:prstGeom prst="rect">
            <a:avLst/>
          </a:prstGeom>
          <a:solidFill>
            <a:srgbClr val="f1f6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36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157400" y="1038240"/>
            <a:ext cx="6777000" cy="360"/>
          </a:xfrm>
          <a:prstGeom prst="rect">
            <a:avLst/>
          </a:prstGeom>
          <a:solidFill>
            <a:srgbClr val="f1f6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0" descr="Rosa Parks in Montgomery after the Supreme Court decision outlawing segregation on public transit."/>
          <p:cNvPicPr/>
          <p:nvPr/>
        </p:nvPicPr>
        <p:blipFill>
          <a:blip r:embed="rId1"/>
          <a:stretch/>
        </p:blipFill>
        <p:spPr>
          <a:xfrm>
            <a:off x="5943600" y="762120"/>
            <a:ext cx="25732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police-report-l"/>
          <p:cNvPicPr/>
          <p:nvPr/>
        </p:nvPicPr>
        <p:blipFill>
          <a:blip r:embed="rId1"/>
          <a:stretch/>
        </p:blipFill>
        <p:spPr>
          <a:xfrm>
            <a:off x="2286000" y="228600"/>
            <a:ext cx="5056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2.  Walking for Justi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8084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ceful: Jesus and Gandh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ycott lasted &gt; one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term effects to bus compan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Bus Boycotter"/>
          <p:cNvPicPr/>
          <p:nvPr/>
        </p:nvPicPr>
        <p:blipFill>
          <a:blip r:embed="rId1"/>
          <a:stretch/>
        </p:blipFill>
        <p:spPr>
          <a:xfrm>
            <a:off x="4952880" y="1905120"/>
            <a:ext cx="41911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3. AA Churches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61640" y="1766880"/>
            <a:ext cx="3808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urches helped with support, meetings, and volunt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ern Christian Leadership Conference (SCLC) 19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 Goal – nonviolent protests against second-    class citizens status; voter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 Lead by M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5" descr="http://www.detroitgospel.com/E-Blasts/images/SCLC-LOGO.jpg"/>
          <p:cNvPicPr/>
          <p:nvPr/>
        </p:nvPicPr>
        <p:blipFill>
          <a:blip r:embed="rId3"/>
          <a:stretch/>
        </p:blipFill>
        <p:spPr>
          <a:xfrm>
            <a:off x="5029200" y="1805040"/>
            <a:ext cx="2398680" cy="244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ts2.mm.bing.net/images/thumbnail.aspx?q=4787235466641485&amp;id=02660f361e1795e5de932bf8ef9a0e05&amp;url=http%3a%2f%2fcdn.mypraiseatl.com%2ffiles%2f2010%2f04%2fsclc-logo.jpg"/>
          <p:cNvPicPr/>
          <p:nvPr/>
        </p:nvPicPr>
        <p:blipFill>
          <a:blip r:embed="rId4"/>
          <a:stretch/>
        </p:blipFill>
        <p:spPr>
          <a:xfrm>
            <a:off x="6572160" y="4286160"/>
            <a:ext cx="25718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acket/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.  Eisenhower Respond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4267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n’t ag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v. 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ood he had to abide by the courts r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2678040" y="1612800"/>
            <a:ext cx="914400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7" descr="http://upload.wikimedia.org/wikipedia/commons/thumb/6/63/Dwight_D._Eisenhower%2C_official_photo_portrait%2C_May_29%2C_1959.jpg/250px-Dwight_D._Eisenhower%2C_official_photo_portrait%2C_May_29%2C_1959.jpg"/>
          <p:cNvPicPr/>
          <p:nvPr/>
        </p:nvPicPr>
        <p:blipFill>
          <a:blip r:embed="rId1"/>
          <a:stretch/>
        </p:blipFill>
        <p:spPr>
          <a:xfrm>
            <a:off x="5257800" y="1752480"/>
            <a:ext cx="3430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3.  Crisis in Little Rock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8084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or Faubus refused the “Little Rock Nine” to enter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s Ark Nat’l Guard to stop students from en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senhower placed Guard under federal control; students allow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little_rock_nine_escorting.jpg"/>
          <p:cNvPicPr/>
          <p:nvPr/>
        </p:nvPicPr>
        <p:blipFill>
          <a:blip r:embed="rId1"/>
          <a:stretch/>
        </p:blipFill>
        <p:spPr>
          <a:xfrm>
            <a:off x="5030640" y="1752480"/>
            <a:ext cx="4113360" cy="3230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http://www.dws.arkansas.gov/About/Legacy/images/gov%20faubus2.jpg"/>
          <p:cNvPicPr/>
          <p:nvPr/>
        </p:nvPicPr>
        <p:blipFill>
          <a:blip r:embed="rId2"/>
          <a:stretch/>
        </p:blipFill>
        <p:spPr>
          <a:xfrm>
            <a:off x="6424560" y="4714920"/>
            <a:ext cx="1324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" descr="http://lcweb.loc.gov/loc/kidslc/images/kllilroc.jpg"/>
          <p:cNvPicPr/>
          <p:nvPr/>
        </p:nvPicPr>
        <p:blipFill>
          <a:blip r:embed="rId3"/>
          <a:stretch/>
        </p:blipFill>
        <p:spPr>
          <a:xfrm>
            <a:off x="0" y="228600"/>
            <a:ext cx="91584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.  The Movement Begi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2" descr="http://www.abbeville.com/images-catalog/full-size/0789201232.jpg"/>
          <p:cNvPicPr/>
          <p:nvPr/>
        </p:nvPicPr>
        <p:blipFill>
          <a:blip r:embed="rId1"/>
          <a:stretch/>
        </p:blipFill>
        <p:spPr>
          <a:xfrm>
            <a:off x="2209680" y="1179360"/>
            <a:ext cx="5448600" cy="54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0" y="271440"/>
            <a:ext cx="9096480" cy="62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entral3.jpg"/>
          <p:cNvPicPr/>
          <p:nvPr/>
        </p:nvPicPr>
        <p:blipFill>
          <a:blip r:embed="rId1"/>
          <a:stretch/>
        </p:blipFill>
        <p:spPr>
          <a:xfrm>
            <a:off x="2286000" y="60480"/>
            <a:ext cx="5715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3" descr="little_rock_desegregation_1957-will-counts.jpg"/>
          <p:cNvPicPr/>
          <p:nvPr/>
        </p:nvPicPr>
        <p:blipFill>
          <a:blip r:embed="rId1"/>
          <a:stretch/>
        </p:blipFill>
        <p:spPr>
          <a:xfrm>
            <a:off x="1219320" y="0"/>
            <a:ext cx="642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8708760" cy="642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508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4. New Legisl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360" y="1719360"/>
            <a:ext cx="3600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Civil Rights Act of 19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  Protect the right to v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. Civil Rights division             in the Dept. of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. US Commission 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vil Rights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SCLC began a campaign to register vo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55140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A.  Origins of the Movemen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  Plessy v. Fergus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8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9360" indent="-603720">
              <a:spcBef>
                <a:spcPts val="601"/>
              </a:spcBef>
              <a:buClr>
                <a:srgbClr val="d69b8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but equal”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9360" indent="-603720">
              <a:spcBef>
                <a:spcPts val="601"/>
              </a:spcBef>
              <a:buClr>
                <a:srgbClr val="d69b8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Crow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9360" indent="-603720">
              <a:spcBef>
                <a:spcPts val="601"/>
              </a:spcBef>
              <a:buClr>
                <a:srgbClr val="d69b8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 taxes, literacy tests, grandfather clause = who can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facto segregation: segregation by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jure segregation: segregation by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8" descr="JimCrowCar2"/>
          <p:cNvPicPr/>
          <p:nvPr/>
        </p:nvPicPr>
        <p:blipFill>
          <a:blip r:embed="rId1"/>
          <a:stretch/>
        </p:blipFill>
        <p:spPr>
          <a:xfrm>
            <a:off x="5029200" y="1676520"/>
            <a:ext cx="4010040" cy="2057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5857920" y="3733920"/>
            <a:ext cx="23526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e jure or De facto segregation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Segregation Map"/>
          <p:cNvPicPr/>
          <p:nvPr/>
        </p:nvPicPr>
        <p:blipFill>
          <a:blip r:embed="rId3"/>
          <a:stretch/>
        </p:blipFill>
        <p:spPr>
          <a:xfrm>
            <a:off x="1447920" y="685800"/>
            <a:ext cx="6694200" cy="387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4"/>
          <a:stretch/>
        </p:blipFill>
        <p:spPr>
          <a:xfrm>
            <a:off x="914400" y="4668840"/>
            <a:ext cx="77612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4.  “The Montgomery </a:t>
            </a:r>
            <a:br>
              <a:rPr sz="3200"/>
            </a:b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Bus Boycott Players”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8084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a Parks (19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D. Nixon – Pres. of NAA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K, Jr. – leads boy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A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  Goal:  To fight and end segregation through the cour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.  Lead Attorney: Thurgood Marsh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.  First AA Supreme Court Justice;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retired 1991; died 199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Thurgood Marshall"/>
          <p:cNvPicPr/>
          <p:nvPr/>
        </p:nvPicPr>
        <p:blipFill>
          <a:blip r:embed="rId1"/>
          <a:stretch/>
        </p:blipFill>
        <p:spPr>
          <a:xfrm>
            <a:off x="5052960" y="4648320"/>
            <a:ext cx="2368440" cy="2116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E. D. Nixon (1899-1987) was a civil rights leader in Montgomery during the 1960s who "/>
          <p:cNvPicPr/>
          <p:nvPr/>
        </p:nvPicPr>
        <p:blipFill>
          <a:blip r:embed="rId2"/>
          <a:stretch/>
        </p:blipFill>
        <p:spPr>
          <a:xfrm>
            <a:off x="5295960" y="2209680"/>
            <a:ext cx="1770120" cy="2362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Martin Luther King Jr.jpg"/>
          <p:cNvPicPr/>
          <p:nvPr/>
        </p:nvPicPr>
        <p:blipFill>
          <a:blip r:embed="rId3"/>
          <a:stretch/>
        </p:blipFill>
        <p:spPr>
          <a:xfrm>
            <a:off x="7066080" y="3962520"/>
            <a:ext cx="2057400" cy="1650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Rosa Parks in Montgomery after the Supreme Court decision outlawing segregation on public transit."/>
          <p:cNvPicPr/>
          <p:nvPr/>
        </p:nvPicPr>
        <p:blipFill>
          <a:blip r:embed="rId4"/>
          <a:stretch/>
        </p:blipFill>
        <p:spPr>
          <a:xfrm>
            <a:off x="7066080" y="1523880"/>
            <a:ext cx="2077920" cy="2233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Naacplogo"/>
          <p:cNvPicPr/>
          <p:nvPr/>
        </p:nvPicPr>
        <p:blipFill>
          <a:blip r:embed="rId5"/>
          <a:stretch/>
        </p:blipFill>
        <p:spPr>
          <a:xfrm>
            <a:off x="5486400" y="763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tIns="35280" anchor="b">
            <a:noAutofit/>
          </a:bodyPr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5. New Political Pow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6212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00240">
              <a:spcBef>
                <a:spcPts val="601"/>
              </a:spcBef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Great Migration - African Americans moved to Northern 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00240">
              <a:spcBef>
                <a:spcPts val="601"/>
              </a:spcBef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During 1930s, New Deal helped African Americans = support Democratic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00240">
              <a:spcBef>
                <a:spcPts val="601"/>
              </a:spcBef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00240">
              <a:spcBef>
                <a:spcPts val="601"/>
              </a:spcBef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00240">
              <a:spcBef>
                <a:spcPts val="601"/>
              </a:spcBef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00240">
              <a:spcBef>
                <a:spcPts val="601"/>
              </a:spcBef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00240">
              <a:spcBef>
                <a:spcPts val="601"/>
              </a:spcBef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00240">
              <a:spcBef>
                <a:spcPts val="601"/>
              </a:spcBef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00240">
              <a:spcBef>
                <a:spcPts val="601"/>
              </a:spcBef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00240">
              <a:spcBef>
                <a:spcPts val="601"/>
              </a:spcBef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00240">
              <a:spcBef>
                <a:spcPts val="601"/>
              </a:spcBef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**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**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981080" y="2957400"/>
            <a:ext cx="529920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ime to work on packet or vocabulary terms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6.  The Push for Desegregation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3960" y="1676160"/>
            <a:ext cx="403848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CORE: Congress of      Racial 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sed Sit-ins:  protesters sat at segregated lunch counters until they were 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Television caught “the ugly face of racis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6" descr="L5"/>
          <p:cNvPicPr/>
          <p:nvPr/>
        </p:nvPicPr>
        <p:blipFill>
          <a:blip r:embed="rId1"/>
          <a:stretch/>
        </p:blipFill>
        <p:spPr>
          <a:xfrm>
            <a:off x="4941720" y="1676520"/>
            <a:ext cx="3794400" cy="2550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[© Richmond Times-Dispatch]"/>
          <p:cNvPicPr/>
          <p:nvPr/>
        </p:nvPicPr>
        <p:blipFill>
          <a:blip r:embed="rId2"/>
          <a:stretch/>
        </p:blipFill>
        <p:spPr>
          <a:xfrm>
            <a:off x="5165640" y="4284720"/>
            <a:ext cx="3348000" cy="2573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1600200" y="4284720"/>
            <a:ext cx="22860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482400"/>
                </a:solidFill>
                <a:latin typeface="Times New Roman"/>
              </a:rPr>
              <a:t>Brown v B.O.E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. &amp; Little Rock </a:t>
            </a:r>
            <a:br>
              <a:rPr sz="2800"/>
            </a:b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School_Segregation___i_Brown_v__The_Board_of_Education__i__and_the_Little_Rock_Nine.asf" descr=""/>
          <p:cNvPicPr/>
          <p:nvPr/>
        </p:nvPicPr>
        <p:blipFill>
          <a:blip r:embed="rId1"/>
          <a:stretch/>
        </p:blipFill>
        <p:spPr>
          <a:xfrm>
            <a:off x="-9360" y="615960"/>
            <a:ext cx="915336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PER</cp:lastModifiedBy>
  <dcterms:modified xsi:type="dcterms:W3CDTF">2012-03-30T22:18:35Z</dcterms:modified>
  <cp:revision>32</cp:revision>
  <dc:subject/>
  <dc:title>PowerPoint Presentation</dc:title>
</cp:coreProperties>
</file>